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CD0-0E1C-4334-93B4-0592CAB8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B2E-452E-4AFB-8E8B-2E1083CE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5AE-0552-4BD7-9E6D-26DDB074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5A5-7A49-4756-B44D-67253164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68CD-915B-4A22-B99F-BA4FCE00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AFB1-ACB3-4694-B2AD-8DA8EC5F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10A4-323C-42B7-8328-E794E5E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A1F6-2745-4781-B879-F82DDCEC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89B4-6621-42A2-8F17-4E93C36D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11AF-6B68-4273-882B-B4940F41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2369-968A-4231-A29F-568E04A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373-7767-4AF1-84FD-51868C65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287F-55A7-4DC0-A869-34709BC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45A3-6F1F-4AAC-8E5A-9BB3841C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C19A-C292-4A02-A47E-40C7B06B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6E00-6D8F-4AA0-8DE2-84FB8599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26A2-AF1C-452B-90AA-ECDC0654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A1AF-5A85-4F18-8418-406EB92F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1BE2-24D2-42C0-A52A-64DE45C4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F3F2-E36C-4C4F-9FB0-DDC3B537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A8AB-92F9-420A-A44D-D0497E1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DEBF-E857-4486-8E67-73DDAE71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2E4-0026-4663-A59B-B77B8100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E688-A598-4D8F-A518-D6E9CE9B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CD8B-BFE7-45B9-9472-6593CCA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4EB78-09A7-44B5-B8FB-B1F57ADE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A24B-3AD8-4DC2-859F-E37EE362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AD09-6A24-4D84-B442-8E692201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078A-5004-45E1-871C-7EDFE662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A4AF-E1C6-4371-836A-E8CAC00B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0026-4773-46CA-ADE2-0269B024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7AFD5-AF22-4201-8447-BBC04717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50E89-F40E-479F-9EAD-309DA7D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99D-034E-45E0-8825-C1B92BA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50FC-5EC5-49A3-93D4-646BDB4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00E2-B10F-432D-A326-A8F1B9B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CB0E-7419-4E25-AF2D-40A556A9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F7DF-3E9F-4195-957B-A3A67A62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5EC4-39E4-4A76-9AF1-F25A33A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F102-AD21-4491-A68B-A1945901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A9D5-BB0F-4097-91B1-812A7015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7273-4954-4AE4-BC69-381EE921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A2A8-43FE-4982-BC73-7A6C345F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06C-E1D5-4971-9A62-A8C30354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307-9AEA-47F3-B6FE-5DAFFAA5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E47-124F-40A1-80CC-C69D831B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253-DB88-47CB-A6C0-A3AD08C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683-5748-4831-84D3-6B284508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F026-CC31-43E4-BB16-AD85767DFE62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3B5-4FA0-4425-A1CC-0A8317C3C7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D186-1BBB-4BBC-8E04-58EAC8EA7F7C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05E6-36BA-48EA-9664-4EADD1C15E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C635-BDA9-484D-A44E-14099DC7B8C2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B568-9F91-43D3-9861-728C8343C9D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A1AD-DCAA-4B47-9BE7-F9DDA1FC934E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0CCD-D49B-4B65-830E-1B5854EDAC8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echtipswcsd.wikispace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248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ebster Secondary School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2007-2008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21</a:t>
            </a:r>
            <a:r>
              <a:rPr b="0" lang="en-US" sz="49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 Century Technology Tools</a:t>
            </a:r>
            <a:br>
              <a:rPr sz="4900"/>
            </a:b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Working Smarter </a:t>
            </a:r>
            <a:r>
              <a:rPr b="0" i="1" lang="en-US" sz="4900" spc="-1" strike="noStrike">
                <a:solidFill>
                  <a:srgbClr val="04617b"/>
                </a:solidFill>
                <a:latin typeface="Calibri"/>
              </a:rPr>
              <a:t>NOT</a:t>
            </a: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 Hard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Emily VerHow—Spry Middle School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Julie Bianchi—Willink Middle School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Dave Leahy—Schroeder High School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Rachel Ciesluk—Thomas High School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Barb Goldammer—Curriculum Supervisor for Math</a:t>
            </a:r>
            <a:br>
              <a:rPr sz="54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Representative 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ordin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od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SS Calend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kyp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g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SS, Google Rea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it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har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k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oogle do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od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lic.io.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Face 2 Face Learning</a:t>
            </a:r>
            <a:br>
              <a:rPr sz="5000"/>
            </a:b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2007-2008   &amp;  2008-2009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artment Meet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d Teacher Meet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Cs-Professional Learning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er-to-Pe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 Tal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deo Conferenc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ittee Meet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Tools 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techtipswcsd.wikispaces.com/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amples from 2007-200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ki for senior project on aquaponic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 of wiki, delic.io.us, skype with technology department mee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tilizing Skype PLC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kis for Algebra, Math Resources, Administrative Instructional Counc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odle for meeting coord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ddle School Enrichment Blog for students book tal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deoconferencing with Skype with colleag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endar with team for testing/project coord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7:19:57Z</dcterms:created>
  <dc:creator>cshell</dc:creator>
  <dc:description/>
  <dc:language>en-US</dc:language>
  <cp:lastModifiedBy>cshell</cp:lastModifiedBy>
  <dcterms:modified xsi:type="dcterms:W3CDTF">2008-04-25T13:08:53Z</dcterms:modified>
  <cp:revision>16</cp:revision>
  <dc:subject/>
  <dc:title>Powerful Learning Practices</dc:title>
</cp:coreProperties>
</file>